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ED9-0DDD-43B0-8FCC-37ED328E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EF2-15F0-4CB3-B72B-27EF2FC8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F70-672E-4A87-B3F4-C41BDC95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4AA-DDC2-4060-8D03-1F93C357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5DC2-FACD-4526-AFF6-9E0808C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4396-267E-4C94-82D9-87C83BDA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78D6-172D-4241-9350-D5D72965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3B4-52EF-4C5B-90BA-6ED9DEB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AFBE-E905-42D3-A1CE-B5D7A293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A24F-2BEA-470B-9840-446CE6F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E6DE-D156-4305-BC6E-4F2E4900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FC2-9115-44F9-9A6A-2AF7D3C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F72D-AB98-4EE6-82C8-5FCC1A6F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11C1-29D0-4BD4-89CF-AF9AC78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D39F-E518-4729-97CD-45CD6FD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F15-1942-466C-B94F-C902EE6B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788-E639-412C-9CFE-39E68CCA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487-C410-45BF-97B0-4DD78538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F00-75D2-4C7C-BECD-A885DE03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369-A2FB-4F2A-90D5-4A1025B1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065-8C0D-4CCF-8782-398ADCE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A2B-D65F-40BA-80DE-B435A7C0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0F0-7C83-4887-A804-5AA4DCC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826-6A94-4FFB-99FD-6368445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DEB-D1DB-44D5-8D0C-5B94CD675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1AF-61B1-4191-87D6-48EEBD638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sson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ogramme of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y the end of the lesson you should kno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at the principles of effective practice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hat factors can have an effect on perform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How to create a 6 week programme of work to improve a skill/ techn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Period star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 the three methods of pract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 the 3 stages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practices would you be performing at each stage of lear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rk/Rest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tivation/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Clear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sur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hiev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ali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me-b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Work/Rest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t consider: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xperience, ability, difficulty of skill, physical demands of sk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igh quality practice over short time is better than low quality practice over a long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Pro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o improve you must always be challe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ractice should never be too easy or too h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 you improve you should aim to make practice gradually more difficult</a:t>
            </a:r>
            <a:r>
              <a:rPr b="0" lang="en-GB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tivation/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Intrin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comic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"/>
              </a:rPr>
              <a:t>Extrin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must have high levels of concentration during practice to stay foc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…</a:t>
            </a: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.Co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Inter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"/>
              </a:rPr>
              <a:t>Exte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Effectiv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py the diagram of EF into your jo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53:13Z</dcterms:created>
  <dc:creator>DooganS</dc:creator>
  <dc:description/>
  <dc:language>en-US</dc:language>
  <cp:lastModifiedBy>DooganS</cp:lastModifiedBy>
  <dcterms:modified xsi:type="dcterms:W3CDTF">2009-11-17T08:39:22Z</dcterms:modified>
  <cp:revision>7</cp:revision>
  <dc:subject/>
  <dc:title>Skills &amp; Techniques</dc:title>
</cp:coreProperties>
</file>